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19.png" ContentType="image/png"/>
  <Override PartName="/ppt/media/image26.wmf" ContentType="image/x-wmf"/>
  <Override PartName="/ppt/media/image15.jpeg" ContentType="image/jpeg"/>
  <Override PartName="/ppt/media/image14.jpeg" ContentType="image/jpeg"/>
  <Override PartName="/ppt/media/image13.jpeg" ContentType="image/jpeg"/>
  <Override PartName="/ppt/media/image18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6.jpeg" ContentType="image/jpeg"/>
  <Override PartName="/ppt/media/image27.wmf" ContentType="image/x-wmf"/>
  <Override PartName="/ppt/media/image30.png" ContentType="image/png"/>
  <Override PartName="/ppt/media/image28.wmf" ContentType="image/x-wmf"/>
  <Override PartName="/ppt/media/image33.jpeg" ContentType="image/jpeg"/>
  <Override PartName="/ppt/media/image31.png" ContentType="image/png"/>
  <Override PartName="/ppt/media/image6.png" ContentType="image/png"/>
  <Override PartName="/ppt/media/camera.wav" ContentType="audio/x-wav"/>
  <Override PartName="/ppt/media/chimes.wav" ContentType="audio/x-wav"/>
  <Override PartName="/ppt/media/image29.png" ContentType="image/png"/>
  <Override PartName="/ppt/media/image21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4.png" ContentType="image/png"/>
  <Override PartName="/ppt/media/image12.jpeg" ContentType="image/jpeg"/>
  <Override PartName="/ppt/media/image22.jpeg" ContentType="image/jpeg"/>
  <Override PartName="/ppt/media/cashreg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02B-AED6-49C6-B298-EB0D27DF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158-AA24-4923-A7C0-804F35A8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6D51-A98D-4D82-B373-53C4DDDC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914-1834-4AA4-A8B3-5339CFD5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3F2-9956-43F5-B389-CB8FF579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2E4-534C-4ACE-8B74-4D29E0A2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177-ECB7-4D31-88F2-7E1CA378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A60-1659-486D-9178-EF27C55A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538F-A3AB-4340-92F0-FA78EE54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0C5-C97F-47EC-AEA2-34B318DA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313-4668-4934-BF1F-074196C6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393-827A-4EC3-9239-6EDFE939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DC67-ED92-493C-88D2-E46FCC27EE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s.xinhuanet.com/olympic/2004-08/29/xinsrc_1008012914410311981514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news.xinhuanet.com/olympic/2004-08/29/xinsrc_330801300749718368316.jpg" TargetMode="External"/><Relationship Id="rId4" Type="http://schemas.openxmlformats.org/officeDocument/2006/relationships/image" Target="../media/image8.jpeg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xinhuanet.com/olympic/2004-08/29/xinsrc_5108012914377341171611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news.xinhuanet.com/olympic/2004-08/29/xinsrc_5708012914389372286212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news.xinhuanet.com/olympic/2004-08/29/xinsrc_270801291440906984413.jpg" TargetMode="External"/><Relationship Id="rId6" Type="http://schemas.openxmlformats.org/officeDocument/2006/relationships/image" Target="../media/image11.jpe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xinhuanet.com/olympic/2004-08/29/xinsrc_0208012914421092977515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news.xinhuanet.com/olympic/2004-08/29/xinsrc_430801291442640602016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476280"/>
            <a:ext cx="8076960" cy="37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黑体"/>
              </a:rPr>
              <a:t>弘扬和培育民族精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黑体"/>
              </a:rPr>
              <a:t>                        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奥运精神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激励我们前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黑体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5516640"/>
            <a:ext cx="752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3300"/>
                </a:solidFill>
                <a:latin typeface="华文新魏"/>
                <a:ea typeface="华文新魏"/>
              </a:rPr>
              <a:t>      </a:t>
            </a:r>
            <a:r>
              <a:rPr b="0" lang="zh-CN" sz="4000" spc="-1" strike="noStrike">
                <a:solidFill>
                  <a:srgbClr val="9900cc"/>
                </a:solidFill>
                <a:latin typeface="黑体"/>
                <a:ea typeface="黑体"/>
              </a:rPr>
              <a:t>高三</a:t>
            </a:r>
            <a:r>
              <a:rPr b="0" lang="en-US" sz="4000" spc="-1" strike="noStrike">
                <a:solidFill>
                  <a:srgbClr val="9900cc"/>
                </a:solidFill>
                <a:latin typeface="黑体"/>
                <a:ea typeface="黑体"/>
              </a:rPr>
              <a:t>.</a:t>
            </a:r>
            <a:r>
              <a:rPr b="0" lang="zh-CN" sz="4000" spc="-1" strike="noStrike">
                <a:solidFill>
                  <a:srgbClr val="9900cc"/>
                </a:solidFill>
                <a:latin typeface="黑体"/>
                <a:ea typeface="黑体"/>
              </a:rPr>
              <a:t>（</a:t>
            </a:r>
            <a:r>
              <a:rPr b="0" lang="en-US" sz="4000" spc="-1" strike="noStrike">
                <a:solidFill>
                  <a:srgbClr val="9900cc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9900cc"/>
                </a:solidFill>
                <a:latin typeface="黑体"/>
                <a:ea typeface="黑体"/>
              </a:rPr>
              <a:t>）班 主题班会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71720" y="228600"/>
            <a:ext cx="444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9966"/>
                </a:solidFill>
                <a:latin typeface="方正舒体"/>
                <a:ea typeface="方正舒体"/>
              </a:rPr>
              <a:t>猜猜看</a:t>
            </a:r>
            <a:r>
              <a:rPr b="0" lang="zh-CN" sz="5400" spc="-1" strike="noStrike">
                <a:solidFill>
                  <a:srgbClr val="339966"/>
                </a:solidFill>
                <a:latin typeface="方正舒体"/>
                <a:ea typeface="方正舒体"/>
              </a:rPr>
              <a:t>,</a:t>
            </a:r>
            <a:r>
              <a:rPr b="0" lang="zh-CN" sz="5400" spc="-1" strike="noStrike">
                <a:solidFill>
                  <a:srgbClr val="339966"/>
                </a:solidFill>
                <a:latin typeface="方正舒体"/>
                <a:ea typeface="方正舒体"/>
              </a:rPr>
              <a:t>是什么项目</a:t>
            </a:r>
            <a:r>
              <a:rPr b="0" lang="zh-CN" sz="5400" spc="-1" strike="noStrike">
                <a:solidFill>
                  <a:srgbClr val="339966"/>
                </a:solidFill>
                <a:latin typeface="方正舒体"/>
                <a:ea typeface="方正舒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72600" y="1371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e8e"/>
                </a:solidFill>
                <a:latin typeface="Times New Roman"/>
              </a:rPr>
              <a:t>男子鞍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65200" y="1905120"/>
            <a:ext cx="32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e8e"/>
                </a:solidFill>
                <a:latin typeface="Times New Roman"/>
              </a:rPr>
              <a:t>射击男子</a:t>
            </a:r>
            <a:r>
              <a:rPr b="0" lang="zh-CN" sz="2800" spc="-1" strike="noStrike">
                <a:solidFill>
                  <a:srgbClr val="004e8e"/>
                </a:solidFill>
                <a:latin typeface="楷体_GB2312"/>
              </a:rPr>
              <a:t>50</a:t>
            </a:r>
            <a:r>
              <a:rPr b="0" lang="zh-CN" sz="2800" spc="-1" strike="noStrike">
                <a:solidFill>
                  <a:srgbClr val="004e8e"/>
                </a:solidFill>
                <a:latin typeface="Times New Roman"/>
              </a:rPr>
              <a:t>米步枪</a:t>
            </a:r>
            <a:r>
              <a:rPr b="0" lang="zh-CN" sz="2800" spc="-1" strike="noStrike">
                <a:solidFill>
                  <a:srgbClr val="004e8e"/>
                </a:solidFill>
                <a:latin typeface="楷体_GB2312"/>
              </a:rPr>
              <a:t>3</a:t>
            </a:r>
            <a:r>
              <a:rPr b="0" lang="en-US" sz="2800" spc="-1" strike="noStrike">
                <a:solidFill>
                  <a:srgbClr val="004e8e"/>
                </a:solidFill>
                <a:latin typeface="楷体_GB2312"/>
              </a:rPr>
              <a:t>x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62520" y="2590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e8e"/>
                </a:solidFill>
                <a:latin typeface="Times New Roman"/>
              </a:rPr>
              <a:t>网球女子双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7320" y="3213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e8e"/>
                </a:solidFill>
                <a:latin typeface="Times New Roman"/>
              </a:rPr>
              <a:t>乒乓球女子单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11080" y="393372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e8e"/>
                </a:solidFill>
                <a:latin typeface="Times New Roman"/>
              </a:rPr>
              <a:t>摔跤女子</a:t>
            </a:r>
            <a:r>
              <a:rPr b="0" lang="zh-CN" sz="2800" spc="-1" strike="noStrike">
                <a:solidFill>
                  <a:srgbClr val="004e8e"/>
                </a:solidFill>
                <a:latin typeface="楷体_GB2312"/>
              </a:rPr>
              <a:t>72</a:t>
            </a:r>
            <a:r>
              <a:rPr b="0" lang="zh-CN" sz="2800" spc="-1" strike="noStrike">
                <a:solidFill>
                  <a:srgbClr val="004e8e"/>
                </a:solidFill>
                <a:latin typeface="Times New Roman"/>
              </a:rPr>
              <a:t>公斤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74240" y="45086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e8e"/>
                </a:solidFill>
                <a:latin typeface="Times New Roman"/>
              </a:rPr>
              <a:t>跳水男子三米跳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02960" y="5229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e8e"/>
                </a:solidFill>
                <a:latin typeface="Times New Roman"/>
              </a:rPr>
              <a:t>跳水女子三米跳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1268280"/>
            <a:ext cx="14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滕海滨</a:t>
            </a:r>
            <a:r>
              <a:rPr b="1" lang="zh-CN" sz="32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17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贾占波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2492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李婷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孙甜甜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31417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张怡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3860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王旭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450864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彭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5229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郭晶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143000"/>
            <a:ext cx="336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3840" y="146160"/>
            <a:ext cx="258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让我来说说</a:t>
            </a: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06360" y="1359000"/>
            <a:ext cx="336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26828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男子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0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1916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女子万米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2492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女子排球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314172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皮划艇男子双人划艇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0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393372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跳水男子十米跳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450864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跆拳道女子负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7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公斤级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5157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跆拳道女子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7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公斤以上级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1268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翔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19162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邢慧娜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08720" y="2492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80000" y="3213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关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文军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38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胡佳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450864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微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5084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中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ffffff"/>
            </a:gs>
            <a:gs pos="100000">
              <a:srgbClr val="00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48520" y="152280"/>
            <a:ext cx="2743200" cy="3276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2979720" cy="299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1143000"/>
            <a:ext cx="8229600" cy="44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ff"/>
                </a:solidFill>
                <a:latin typeface="华文新魏"/>
                <a:ea typeface="华文新魏"/>
              </a:rPr>
              <a:t>为我们的奥运健儿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骄傲吧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</a:t>
            </a:r>
            <a:r>
              <a:rPr b="0" lang="zh-CN" sz="4800" spc="-1" strike="noStrike">
                <a:solidFill>
                  <a:srgbClr val="9900ff"/>
                </a:solidFill>
                <a:latin typeface="华文新魏"/>
                <a:ea typeface="华文新魏"/>
              </a:rPr>
              <a:t>为参加运动会的同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加油吧</a:t>
            </a:r>
            <a:r>
              <a:rPr b="0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354" dur="indefinite" restart="never" nodeType="tmRoot">
          <p:childTnLst>
            <p:seq>
              <p:cTn id="35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8ef4"/>
            </a:gs>
            <a:gs pos="50000">
              <a:srgbClr val="ffffff"/>
            </a:gs>
            <a:gs pos="100000">
              <a:srgbClr val="f28e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5335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华文新魏"/>
                <a:ea typeface="华文新魏"/>
              </a:rPr>
              <a:t>奥运冠军的故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43200" y="2270160"/>
            <a:ext cx="4495680" cy="3559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2533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4324320"/>
            <a:ext cx="3200400" cy="25336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66688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117007_1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5863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45737" descr=""/>
          <p:cNvPicPr/>
          <p:nvPr/>
        </p:nvPicPr>
        <p:blipFill>
          <a:blip r:embed="rId2"/>
          <a:stretch/>
        </p:blipFill>
        <p:spPr>
          <a:xfrm>
            <a:off x="4419720" y="228600"/>
            <a:ext cx="4572000" cy="3962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343400" y="4267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北京奥运会会徽将中国具有</a:t>
            </a:r>
            <a:r>
              <a:rPr b="0" lang="zh-CN" sz="2400" spc="-1" strike="noStrike">
                <a:solidFill>
                  <a:srgbClr val="333333"/>
                </a:solidFill>
                <a:latin typeface="楷体_GB2312"/>
              </a:rPr>
              <a:t>5000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年历史的</a:t>
            </a:r>
            <a:r>
              <a:rPr b="0" lang="zh-CN" sz="2400" spc="-1" strike="noStrike">
                <a:solidFill>
                  <a:srgbClr val="9933ff"/>
                </a:solidFill>
                <a:latin typeface="宋体"/>
              </a:rPr>
              <a:t>印章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和</a:t>
            </a:r>
            <a:r>
              <a:rPr b="0" lang="zh-CN" sz="2400" spc="-1" strike="noStrike">
                <a:solidFill>
                  <a:srgbClr val="9933ff"/>
                </a:solidFill>
                <a:latin typeface="宋体"/>
              </a:rPr>
              <a:t>书法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等艺术形式与体育运动特征结合起来，巧妙地幻化成一个向前</a:t>
            </a:r>
            <a:r>
              <a:rPr b="0" lang="zh-CN" sz="2400" spc="-1" strike="noStrike">
                <a:solidFill>
                  <a:srgbClr val="9933ff"/>
                </a:solidFill>
                <a:latin typeface="宋体"/>
              </a:rPr>
              <a:t>奔跑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9900cc"/>
                </a:solidFill>
                <a:latin typeface="宋体"/>
              </a:rPr>
              <a:t>迎接胜利</a:t>
            </a: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的运动人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533520"/>
            <a:ext cx="3886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北京奥运主体育场选定</a:t>
            </a:r>
            <a:r>
              <a:rPr b="1" lang="zh-CN" sz="2800" spc="-1" strike="noStrike">
                <a:solidFill>
                  <a:srgbClr val="9933ff"/>
                </a:solidFill>
                <a:latin typeface="_x000b__x000c_"/>
              </a:rPr>
              <a:t>“鸟巢”</a:t>
            </a: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为最终方案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2640" y="281952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新北京，新奥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3fd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480" y="838080"/>
            <a:ext cx="82296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华文行楷"/>
                <a:ea typeface="华文行楷"/>
              </a:rPr>
              <a:t>   </a:t>
            </a:r>
            <a:r>
              <a:rPr b="0" lang="zh-CN" sz="5400" spc="-1" strike="noStrike">
                <a:solidFill>
                  <a:srgbClr val="800080"/>
                </a:solidFill>
                <a:latin typeface="华文行楷"/>
                <a:ea typeface="华文行楷"/>
              </a:rPr>
              <a:t>奥运精神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80"/>
                </a:solidFill>
                <a:latin typeface="华文行楷"/>
                <a:ea typeface="华文行楷"/>
              </a:rPr>
              <a:t>          </a:t>
            </a:r>
            <a:r>
              <a:rPr b="0" lang="zh-CN" sz="5400" spc="-1" strike="noStrike">
                <a:solidFill>
                  <a:srgbClr val="800080"/>
                </a:solidFill>
                <a:latin typeface="华文行楷"/>
                <a:ea typeface="华文行楷"/>
              </a:rPr>
              <a:t>激励我们前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19920" y="4038480"/>
            <a:ext cx="281916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2666880" cy="3949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934320" y="304920"/>
            <a:ext cx="18748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ffffff"/>
            </a:gs>
            <a:gs pos="100000">
              <a:srgbClr val="00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042920" y="692280"/>
            <a:ext cx="3888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奥运精神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27640" y="981000"/>
            <a:ext cx="4105080" cy="18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更高更快更强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11280" y="3284640"/>
            <a:ext cx="800100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68360" y="333360"/>
            <a:ext cx="29527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们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360" y="1916280"/>
            <a:ext cx="82072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让我们以优异的成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19640" y="3933720"/>
            <a:ext cx="48243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迎接中国奥运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11280" y="4437000"/>
            <a:ext cx="23400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47640" y="69840"/>
          <a:ext cx="6480360" cy="43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69840"/>
                    <a:ext cx="648036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411280" y="37893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奥运五环象征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46530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五环象征着五大洲：欧洲、亚洲、非洲、澳洲和美洲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96252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304920"/>
            <a:ext cx="3124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1896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奥运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79720" cy="4952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89800" y="1066680"/>
            <a:ext cx="16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雅典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76520"/>
            <a:ext cx="56386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第二十五届奥运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第二十六届奥运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第二十七届奥运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_x000b__x000c_"/>
              </a:rPr>
              <a:t>第二十八届奥运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09160" y="4191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_x000b__x000c_"/>
              </a:rPr>
              <a:t>雅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87120" y="1571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_x000b__x000c_"/>
              </a:rPr>
              <a:t>巴塞罗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87120" y="2438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_x000b__x000c_"/>
              </a:rPr>
              <a:t>亚特兰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3352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宋体"/>
              </a:rPr>
              <a:t>悉尼</a:t>
            </a:r>
            <a:r>
              <a:rPr b="0" lang="zh-CN" sz="36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4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猜猜看：奥运会的举办地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00000" y="22860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Times New Roman"/>
                <a:ea typeface="隶书"/>
              </a:rPr>
              <a:t>     </a:t>
            </a:r>
            <a:r>
              <a:rPr b="0" lang="zh-CN" sz="4800" spc="-1" strike="noStrike">
                <a:solidFill>
                  <a:srgbClr val="9900cc"/>
                </a:solidFill>
                <a:latin typeface="Times New Roman"/>
                <a:ea typeface="隶书"/>
              </a:rPr>
              <a:t>2004</a:t>
            </a:r>
            <a:r>
              <a:rPr b="0" lang="zh-CN" sz="4800" spc="-1" strike="noStrike">
                <a:solidFill>
                  <a:srgbClr val="9900cc"/>
                </a:solidFill>
                <a:latin typeface="Times New Roman"/>
                <a:ea typeface="隶书"/>
              </a:rPr>
              <a:t>奥运会中国奖牌榜</a:t>
            </a:r>
            <a:r>
              <a:rPr b="0" lang="en-US" sz="4800" spc="-1" strike="noStrike">
                <a:solidFill>
                  <a:srgbClr val="9900cc"/>
                </a:solidFill>
                <a:latin typeface="Times New Roman"/>
                <a:ea typeface="隶书"/>
              </a:rPr>
              <a:t>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819520"/>
            <a:ext cx="3456000" cy="4038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49880" y="2819520"/>
            <a:ext cx="3284640" cy="4038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2133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米气步枪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杜丽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13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米气步枪（王义夫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90792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Times New Roman"/>
                <a:ea typeface="隶书"/>
              </a:rPr>
              <a:t>     </a:t>
            </a:r>
            <a:r>
              <a:rPr b="0" lang="en-US" sz="4800" spc="-1" strike="noStrike">
                <a:solidFill>
                  <a:srgbClr val="9900cc"/>
                </a:solidFill>
                <a:latin typeface="Times New Roman"/>
                <a:ea typeface="隶书"/>
              </a:rPr>
              <a:t>32</a:t>
            </a:r>
            <a:r>
              <a:rPr b="0" lang="zh-CN" sz="4800" spc="-1" strike="noStrike">
                <a:solidFill>
                  <a:srgbClr val="9900cc"/>
                </a:solidFill>
                <a:latin typeface="Times New Roman"/>
                <a:ea typeface="隶书"/>
              </a:rPr>
              <a:t>金</a:t>
            </a:r>
            <a:r>
              <a:rPr b="0" lang="en-US" sz="4800" spc="-1" strike="noStrike">
                <a:solidFill>
                  <a:srgbClr val="9900cc"/>
                </a:solidFill>
                <a:latin typeface="Times New Roman"/>
                <a:ea typeface="隶书"/>
              </a:rPr>
              <a:t>17</a:t>
            </a:r>
            <a:r>
              <a:rPr b="0" lang="zh-CN" sz="4800" spc="-1" strike="noStrike">
                <a:solidFill>
                  <a:srgbClr val="9900cc"/>
                </a:solidFill>
                <a:latin typeface="Times New Roman"/>
                <a:ea typeface="隶书"/>
              </a:rPr>
              <a:t>银</a:t>
            </a:r>
            <a:r>
              <a:rPr b="0" lang="en-US" sz="4800" spc="-1" strike="noStrike">
                <a:solidFill>
                  <a:srgbClr val="9900cc"/>
                </a:solidFill>
                <a:latin typeface="Times New Roman"/>
                <a:ea typeface="隶书"/>
              </a:rPr>
              <a:t>14</a:t>
            </a:r>
            <a:r>
              <a:rPr b="0" lang="zh-CN" sz="4800" spc="-1" strike="noStrike">
                <a:solidFill>
                  <a:srgbClr val="9900cc"/>
                </a:solidFill>
                <a:latin typeface="Times New Roman"/>
                <a:ea typeface="隶书"/>
              </a:rPr>
              <a:t>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200400"/>
            <a:ext cx="3165480" cy="365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2743200"/>
            <a:ext cx="342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600200"/>
            <a:ext cx="3505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女子双人三米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郭晶晶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吴敏霞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0"/>
            <a:ext cx="315288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8120" y="358128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子双人十米跳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田亮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杨景辉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68880" y="3657600"/>
            <a:ext cx="3075120" cy="3200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248520" y="228600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女子柔道５２公斤 冼东妹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581280"/>
            <a:ext cx="2730600" cy="3276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236232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子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气步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朱启南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33840" y="0"/>
            <a:ext cx="3035160" cy="3962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971800" y="411480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女子举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公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陈艳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103800" y="3581280"/>
            <a:ext cx="3040200" cy="327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248520" y="2209680"/>
            <a:ext cx="259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女子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蛙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罗雪娟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3075120" cy="3505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743200" y="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183360" y="3276720"/>
            <a:ext cx="2960640" cy="3581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228600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子举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6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公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石智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50532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女子双人１０米跳台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劳丽诗／李婷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1752480"/>
            <a:ext cx="259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男子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6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公斤级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张国政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23280" y="217440"/>
            <a:ext cx="348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方正舒体"/>
                <a:ea typeface="方正舒体"/>
              </a:rPr>
              <a:t>让我想一想</a:t>
            </a:r>
            <a:r>
              <a:rPr b="0" lang="zh-CN" sz="5400" spc="-1" strike="noStrike">
                <a:solidFill>
                  <a:srgbClr val="0033cc"/>
                </a:solidFill>
                <a:latin typeface="方正舒体"/>
                <a:ea typeface="方正舒体"/>
              </a:rPr>
              <a:t>,</a:t>
            </a:r>
            <a:r>
              <a:rPr b="0" lang="zh-CN" sz="5400" spc="-1" strike="noStrike">
                <a:solidFill>
                  <a:srgbClr val="0033cc"/>
                </a:solidFill>
                <a:latin typeface="方正舒体"/>
                <a:ea typeface="方正舒体"/>
              </a:rPr>
              <a:t>他们是谁</a:t>
            </a:r>
            <a:r>
              <a:rPr b="0" lang="zh-CN" sz="5400" spc="-1" strike="noStrike">
                <a:solidFill>
                  <a:srgbClr val="0033cc"/>
                </a:solidFill>
                <a:latin typeface="方正舒体"/>
                <a:ea typeface="方正舒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1371600"/>
            <a:ext cx="12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刘春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58600" y="198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张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16600" y="266688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张军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高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429000"/>
            <a:ext cx="16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王楠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张怡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77240" y="4114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唐功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05160" y="4724280"/>
            <a:ext cx="151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杨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张洁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86520" y="5486400"/>
            <a:ext cx="130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马琳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陈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126828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举重女子</a:t>
            </a:r>
            <a:r>
              <a:rPr b="1" lang="en-US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69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公斤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76720" y="184464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羽毛球女单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03640" y="2492280"/>
            <a:ext cx="26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羽毛球混双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328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乒乓球女子双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400536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举重女子</a:t>
            </a:r>
            <a:r>
              <a:rPr b="1" lang="en-US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75</a:t>
            </a: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公斤以上级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46530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羽毛球女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53737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乒乓球男子双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9:02:47Z</dcterms:modified>
  <cp:revision>7</cp:revision>
  <dc:subject>主题班会课件(分28大类): http://shop62905894.taobao.com</dc:subject>
  <dc:title>主题班会课件(分28大类): http://shop62905894.taobao.com</dc:title>
</cp:coreProperties>
</file>